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F50D-AEA2-46AE-91DA-5C01B3181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C043-83A8-4B69-9EE0-BE95F2B3B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4440-BC2B-4F5E-AD17-C9C544C7B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B343-4649-44E9-9F90-0E8759102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72A-B32C-4E8F-B705-4AE2A39F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19F-4B2E-4653-8D59-8A6A5699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283-BBFC-4A0D-8B00-345DD3B5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E2F2-0068-4422-8389-A7C9B83B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FA1-2BFE-418A-B08C-D84558B0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510-590C-4EE2-A2FB-7E40547F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59C-BF0B-47BB-8087-48BF36D4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414-DD06-4FD8-AF80-21402DF1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7C2-0815-4758-9E40-4C4E0C11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316-A686-4530-ACED-A6F7979E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2DF-0532-4AD8-B7BF-E9FA11BF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467-FE55-408F-B912-A83787B5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FE0A-A0F7-4552-AEB4-89E4F80EF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Feedback Lo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dentify positive and negative feedback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Describe how feedback systems impact global climate 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, and/or chemical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3. Matter moves and changes to return a system to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8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Feedback loops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n accelerate, decelerate, or dampen change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dback Loop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Posi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the system causes further changes in the system such that some component in the system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increases overall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Nega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a system causes and opposite response in the system such that the system is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closer to 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In this case, the negative feedback component will decrease the size of the changes going on in th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Negative Feedback Loop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bio.miami.edu/~cmallery/150/physiol/c44x10thermo-reg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negfeedbackloop.jpg"/>
          <p:cNvPicPr/>
          <p:nvPr/>
        </p:nvPicPr>
        <p:blipFill>
          <a:blip r:embed="rId1"/>
          <a:stretch/>
        </p:blipFill>
        <p:spPr>
          <a:xfrm>
            <a:off x="615960" y="730080"/>
            <a:ext cx="7912080" cy="53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Positive Feedback Loop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sitemaker.umich.edu/section2_group1/files/secondfeedback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secondfeedback.jpg"/>
          <p:cNvPicPr/>
          <p:nvPr/>
        </p:nvPicPr>
        <p:blipFill>
          <a:blip r:embed="rId1"/>
          <a:stretch/>
        </p:blipFill>
        <p:spPr>
          <a:xfrm>
            <a:off x="1295280" y="990720"/>
            <a:ext cx="6604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afrost and Global Warm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1" name="Picture 3" descr="FIGURESCIRCACTIVITY.png"/>
          <p:cNvPicPr/>
          <p:nvPr/>
        </p:nvPicPr>
        <p:blipFill>
          <a:blip r:embed="rId1"/>
          <a:stretch/>
        </p:blipFill>
        <p:spPr>
          <a:xfrm>
            <a:off x="1219320" y="12952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533520" y="5486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diagram, label the steps for how global warming and permafrost have a positive feedback loo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Feedback Loop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8:00:37Z</dcterms:created>
  <dc:creator>Julie Libarkin</dc:creator>
  <dc:description/>
  <dc:language>en-US</dc:language>
  <cp:lastModifiedBy>Nicole LaDue</cp:lastModifiedBy>
  <dcterms:modified xsi:type="dcterms:W3CDTF">2010-12-20T20:32:41Z</dcterms:modified>
  <cp:revision>310</cp:revision>
  <dc:subject/>
  <dc:title>PowerPoint Presentation</dc:title>
</cp:coreProperties>
</file>